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ABB6-74AD-407A-AFA3-4330941BF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C361-521A-486E-A8CB-78F81256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4576-1F40-48BD-A37E-38D15141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EB2C-5498-4820-AE6A-36EC68E2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DE92-E7FB-4599-B852-FB5F5132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4BDD-459C-4C64-8FA0-AF720FDD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0D33-6EC3-46B9-837A-C3E6B1FD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58A8-E7F1-4820-8921-685C8629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0973-BB58-4098-AEA1-5434CAB2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C99C-0BA3-477A-AAB1-2318F0F2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21E9-4F44-4D66-A95F-0EEAB815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CA5B-3B26-4757-99F6-A724856C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January 25th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3372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005 CE Linux Forum Technical Con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62D3-0925-46DF-BD99-FA6E6F85A729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4978440" cy="73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152280"/>
            <a:ext cx="52578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8610480" cy="1872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637000"/>
            <a:ext cx="899172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ootup Time Working Gro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scu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im Bird, Chai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002E-F30D-4A6A-BC1F-A7B59B0C6E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rnel X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e kernel directly from flas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know current status in ker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5777-63CA-40C1-B53B-6C561498DB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 X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e applications and libraries directly from fl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AMFS-linear patch – what is statu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C script speedup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brary prelink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450E-21F1-42D3-B8BB-D0C0B33607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ing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Cross-platform API for timing measurement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s were completed on x86 and P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was never submitted to LK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 needs to be tested and compared with sched_clock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13FB-1768-4AB3-9188-8559AF4F60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ntk-tim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a.k.a Instrumented Printk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s timing information on each printk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 on any platform supporting sched_clock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submit to LK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 add printks at key init check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pionts were identified in Apr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FE90-CB13-4BAB-85F8-C881FE040C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F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s time and duration of each kernel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 on any platform supporting sched_clock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currently being extend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med tr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complex trig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 fs output (eliminating need for user-space to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submit to LK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want additional post-processing tool to show different trace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DFBB-5C51-43B2-B875-72463332E8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brary Pre-L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 applications to shared libraries ahead of runti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prototype system to measure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C script speed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fork cost and improve use of busybox builtin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ybox patch needs to be submitted to busybox mailing list for com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70E3-15C2-44A3-BEBC-5FEAD85544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urrent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find drivers with spare (busywait) cy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identify prototype mechanism for overlapping driver initial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system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d initial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find spots that might be improv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E9DF-F914-48E2-94EF-1775A5A192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91120" y="22824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62120" y="990720"/>
          <a:ext cx="7848360" cy="4502160"/>
        </p:xfrm>
        <a:graphic>
          <a:graphicData uri="http://schemas.openxmlformats.org/drawingml/2006/table">
            <a:tbl>
              <a:tblPr/>
              <a:tblGrid>
                <a:gridCol w="1981080"/>
                <a:gridCol w="838080"/>
                <a:gridCol w="762120"/>
                <a:gridCol w="990720"/>
                <a:gridCol w="838080"/>
                <a:gridCol w="914400"/>
                <a:gridCol w="685800"/>
                <a:gridCol w="838080"/>
              </a:tblGrid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c0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ar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F Imp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 Imp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alu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p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ibrate delay/Preset-LP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E-nopro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rt IDE del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rnel X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@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lication X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ing AP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- W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@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F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k-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@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C no-syn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c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C script speedu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current In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ck and Safe Shutdow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le system del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-linking/lazy lin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080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5105520" y="2133720"/>
            <a:ext cx="1143000" cy="457200"/>
          </a:xfrm>
          <a:prstGeom prst="ellipse">
            <a:avLst/>
          </a:prstGeom>
          <a:noFill/>
          <a:ln w="44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9920" y="2362320"/>
            <a:ext cx="1143000" cy="457200"/>
          </a:xfrm>
          <a:prstGeom prst="ellipse">
            <a:avLst/>
          </a:prstGeom>
          <a:noFill/>
          <a:ln w="44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67640" y="3213000"/>
            <a:ext cx="1143000" cy="457200"/>
          </a:xfrm>
          <a:prstGeom prst="ellipse">
            <a:avLst/>
          </a:prstGeom>
          <a:noFill/>
          <a:ln w="44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67640" y="3789360"/>
            <a:ext cx="1143000" cy="457200"/>
          </a:xfrm>
          <a:prstGeom prst="ellipse">
            <a:avLst/>
          </a:prstGeom>
          <a:noFill/>
          <a:ln w="44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2000" y="4005360"/>
            <a:ext cx="1143000" cy="457200"/>
          </a:xfrm>
          <a:prstGeom prst="ellipse">
            <a:avLst/>
          </a:prstGeom>
          <a:noFill/>
          <a:ln w="44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56000" y="5157720"/>
            <a:ext cx="1143000" cy="457200"/>
          </a:xfrm>
          <a:prstGeom prst="ellipse">
            <a:avLst/>
          </a:prstGeom>
          <a:noFill/>
          <a:ln w="44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96360" y="3500280"/>
            <a:ext cx="1143000" cy="457200"/>
          </a:xfrm>
          <a:prstGeom prst="ellipse">
            <a:avLst/>
          </a:prstGeom>
          <a:noFill/>
          <a:ln w="44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B6EB-D906-46E8-9DAB-5961040C6366}" type="slidenum">
              <a:t>1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e Gro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boru Wakabayashi – Hitac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rm Gadiraju – In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yoyasu Maruyama – Mistubis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d Poynor – Monta V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shinori Nagai – Shar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 Bird – So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isuke Yasui - Toshi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9500-5ED5-468F-829C-0E411DDE75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2362320"/>
            <a:ext cx="8610840" cy="23619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77320" y="220968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800600"/>
            <a:ext cx="8610840" cy="1447920"/>
          </a:xfrm>
          <a:prstGeom prst="rect">
            <a:avLst/>
          </a:prstGeom>
          <a:solidFill>
            <a:srgbClr val="ff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ology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2514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2743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23619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2590920"/>
            <a:ext cx="2209680" cy="1295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ing 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r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rumented print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4724280"/>
            <a:ext cx="80769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3581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60680" y="179388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m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10600" y="18288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82560" y="182880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01520" y="182880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2209680"/>
            <a:ext cx="0" cy="30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3400" y="2209680"/>
            <a:ext cx="0" cy="30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19920" y="2209680"/>
            <a:ext cx="0" cy="312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4952880"/>
            <a:ext cx="2286000" cy="1067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X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C Script Speed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 Pre-lin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2590920"/>
            <a:ext cx="2286000" cy="1981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t LP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 Preem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 no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 fast prob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TC no-sy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4952880"/>
            <a:ext cx="2286000" cy="1219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urrent I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ick and Sa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ut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 System De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2590920"/>
            <a:ext cx="1524240" cy="83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 X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4952880"/>
            <a:ext cx="15242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al X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59092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495288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6FA5-33DD-482A-B6D4-40698C9F64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ches for Bootup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68360" y="1981080"/>
          <a:ext cx="8280360" cy="4167360"/>
        </p:xfrm>
        <a:graphic>
          <a:graphicData uri="http://schemas.openxmlformats.org/drawingml/2006/table">
            <a:tbl>
              <a:tblPr/>
              <a:tblGrid>
                <a:gridCol w="2808360"/>
                <a:gridCol w="5472000"/>
              </a:tblGrid>
              <a:tr h="43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t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rnel XIP (CRAMFS-linea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atch archive (2.6.9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t-LPJ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ainline (since 2.6.8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rt IDE delay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atch archive (2.6.8-rc2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C nosyn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atch archive (x86: 2.6.7, ppc:2.6.1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k-tim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atch archive (2.6.1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rnel Function Instrument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atch archive (2.6.9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ux Trace Toolk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patch archive (2.6.10 and 2.6.11–mm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6D98-73F0-4774-B081-0ADE8C17E8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atches are being mainta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assistance extending/maintaining patches for other archite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G activity has fallen off, du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 to 2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ziness by WG Ch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restart WG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40DA-C96A-4032-A1F1-9FA0052300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y instrumentation tools (printk-times, KFI, LTT) on other archite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mit existing patches to LK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 on user spa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C scri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-lin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4108-4106-490C-8A14-5F56345EBA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24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rrent Implem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C05A-C9FA-4D1B-9651-241D48BA56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rt IDE del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 init code delays over 70 times during star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ch changes IDE delay from 50 milliseconds to 5 millisec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ch was submitted to LKML in August, but rej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determine reason for so many calls to delay during IDE i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calls to delay can be avoided using IDE “noprobe” on the kernel command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evaluate risks of short IDE de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F5E5-7D19-4227-8D71-D2695F1B20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-no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 “noprobe” option on kernel command line allows skipping some IDE probing during in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 is sometimes disabled (overridden) by PCI init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was true in 2.4,we need to confirm this behaviour in 2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find out why noprobe is being overrid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patch is a quick hack to identify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ask LKML about behavi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2438-D2CF-450C-9049-F32218CD57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TC No-syn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synchronization with RTC clock edge during first load of system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patches for x86 and P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86 patch was submitted – apparently igno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submit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6C80-2E3D-4F21-AE4F-D061864E62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4T22:14:41Z</dcterms:created>
  <dc:creator>Thomas U. Swidler</dc:creator>
  <dc:description/>
  <dc:language>en-US</dc:language>
  <cp:lastModifiedBy>Tim Bird</cp:lastModifiedBy>
  <dcterms:modified xsi:type="dcterms:W3CDTF">2005-01-28T22:25:00Z</dcterms:modified>
  <cp:revision>364</cp:revision>
  <dc:subject/>
  <dc:title>PowerPoint Presentation</dc:title>
</cp:coreProperties>
</file>